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48753"/>
        <c:axId val="27674637"/>
      </c:barChart>
      <c:catAx>
        <c:axId val="67248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74637"/>
        <c:crosses val="autoZero"/>
        <c:auto val="1"/>
        <c:lblAlgn val="ctr"/>
        <c:lblOffset val="100"/>
        <c:noMultiLvlLbl val="0"/>
      </c:catAx>
      <c:valAx>
        <c:axId val="276746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48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004-BF0B-42EB-882E-C4CFB958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4AF-0B1A-4624-827C-3B896448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C73E-6C66-466D-8D62-2BE372D3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A5AD-D6FE-4D12-B811-BACE1E73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A363-EC37-4164-91F3-9A55F1E4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96B-1C94-4EB5-8977-F7EC055B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3C8-4790-484E-BC98-720CB723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DE3C-1E80-4188-87E7-4A69FB7B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305-592A-4332-929A-7D187396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5D3-43B7-434A-A2EB-FD72F411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1493-8385-4A70-969D-5ACE63BC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50B-BE58-4341-8253-51D639F6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96183-2013-42AB-91B2-FF24537B8B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