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3867FB-3355-464F-AD09-CB7029C65F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9063AC-9101-463E-A461-AF023DADB3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7EE6EB-9DA5-4DBF-8516-9F823CC6FD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965242-F8A3-4B6B-9FD7-96386DD51E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A9F8784-C98C-4CBA-BD02-5DDEC929421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2728F0-489F-4CAF-A430-E0F37AFE1A0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528A01-3897-4901-BE82-03978CC4F1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E59F74-DA1F-44C0-9FB5-A8CBBDE321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AB2158-67EB-4D60-8D30-347BF2D0B6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A95D00-DB0F-4F71-9997-61C7E84E8F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80679B-7328-486D-9DB6-1683D776A3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B937B2-FD5F-4F24-8DDB-7F3C7E5860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9E248C-D635-43BA-8929-9BB5F73A71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6CD249-8C8E-4B95-91AE-5BF6B08C55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CBD90FB-E97C-4D10-A17A-2F2C196105C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2E4121C-D5DD-4AD5-8523-E6616278497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31F37D2-F391-4EF8-A826-40A9141E382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D8021E-7868-4B65-A419-4B539A6F0A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E8C29D-7FF6-44F1-A1C7-F71E6B776B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6926A9-9EDF-411F-8DA2-0F311806A6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0E7937-07B0-4925-80B7-2DF7D9F237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E6A045-E442-4FA8-8C8C-342855686E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EBEEB4-E268-42CA-A981-C4A7B8A23B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C599B3-7F16-4530-BBA8-C0590455A03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BF86E4-6249-465B-8494-F9DF1434CBA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3403C2-3F5E-491F-82ED-7BD5BDDF662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315D54F-1545-45D4-8434-375334F6D5F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B918166-1585-4E42-B4BC-73FB6D7BE10C}"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330BE3-8BDD-428B-8893-B8AC52B8D678}"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96722B-C9E5-4C32-8524-20C6B91BFADF}"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484311-8A30-4430-AE99-B787DF7568D3}"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8550EE-16E3-4646-A245-034BA6D18E96}"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045281-C8AA-441A-8A69-95D3459F68C2}"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0981F7-9BC0-41DF-A918-169359668623}"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8EFD58-3AF5-4EF4-93EE-1AF778D44703}"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00AAB1-6921-441E-AFB3-8A3E6FC8818A}"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A4E3A5-B5F5-463F-B2F9-7FEA3406B3BF}"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AE8934-087A-451B-A137-50EEDA8015ED}"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1BC3F6-B076-4CD7-B164-F6EE50971E76}"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1C547C-EEC4-49FC-9D41-15BF43EEF2CD}"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2CD89E-E932-4461-9765-35C8694AF2FB}"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5935AD-A1C8-4AFB-858A-F52564B1E9E3}"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551BF8-5D77-496F-BDF6-86E4AAA87773}"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4EF966-D86A-4B30-BF9D-51C7D458A7B2}"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4CAE36-7AE6-4C99-967C-BE0CC7BC6AEA}"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33F6A6-6B1B-4311-8E99-6DAB0E40AA76}"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55C34F-6C48-4E15-BCD2-FCBD0E010A3B}"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D74C63-A29D-454A-B42C-2EFB610EFE94}"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D89FB4-219E-4255-B902-DB9A434D1DD7}"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235394-C4F7-4265-8CAD-EEE78A3D2397}"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49BCA7-AF3E-42D5-B2DA-89DD660C62B0}"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EFD786-0650-4DEB-B515-476918E38D46}"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07688D-2ADF-4316-B9F0-D37A55409692}"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E9F9103-FF48-40E5-BF7E-3D041409A66D}"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A9CA17-4F14-4F24-92B2-29040B5A1161}"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08AC4C-E67C-48B4-8C84-7035C6B20425}"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906053-E297-4B7E-87D0-9E99CA1D0B76}"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43D042-51A9-4FF9-BAB9-CDA2BB4CB4A2}"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9E47F3-E084-441B-B031-29ABE5C0AE1A}"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B81E63-9798-4925-8DBC-85D9714E3221}"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35554B-6F3E-4B91-B691-BDB0C2A4DF5C}"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B1AA39-5A90-4831-B414-8FF0ECB4ABFC}"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A34873-7034-42F6-BDFD-4B178ACBF9D4}"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059DDF-4163-4E7E-85FC-557666D5F74A}"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3EC969-A900-43ED-A507-77D7432F8B2E}"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9969BA-5D62-44D0-83F6-2EDC5C8A4E4A}"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FAD2E1-1ED2-4C88-AA43-CD154AD010CC}"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A589BE-A26D-4B72-A6BD-4B927C49EE74}"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3DFB67-9831-4132-A61C-EBD79523DC49}"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A768B0-AA5B-43E9-B190-AA77EFED6AD0}"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B1FFE8-545A-4472-9672-1DDBEEAF4716}"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96A0D8-51FE-46BB-B80F-F83A160FC321}"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DEDC95-8F2B-467C-AE8E-33432032D5AD}"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C87CF2-166A-4E95-ACDE-DBDBD1743FB5}"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92ECB1C-62AB-4D36-9AB2-C8226DC63CC4}"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BCA9C2-30D2-43FC-820E-71DFB575F2CA}"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3E404B-8919-4B5E-B671-E3CAAFC5F8E8}"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E7A9388-E9F5-465D-8584-B6E8DF5ACF98}"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5BC5AF-0DA5-4CE9-BF66-CE4C43307539}"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601E84-1EA0-47C5-A07A-4F8B44990266}"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5497F7-FC4D-486F-9986-832FC651089C}"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7F3497-3BCB-4A0D-BD14-EC2F683781D8}"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CAE17D-3012-4A3D-AD43-D6F591C4C5C3}"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8A7DD2-C072-41D3-B64E-5F0D9FF9F5B3}"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938690-CDA0-4C5C-99FB-CB8548A24697}"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A805F05-677A-47D6-8D29-3A028CE208D7}"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9BAF89-5D0E-4B31-99E1-4642276CFB7D}"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59993B-DE7A-4741-BB90-300B3CF1158D}"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F74F32-8F30-4913-8C2E-3D7509087D5E}"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BA02FC-02E5-4386-BAA1-8670726DBD90}"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1F7DC4-9F43-4F6C-8E3D-0496B1B2C5F4}"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F2B7104-B6B4-48AD-A576-757C1935DF4D}"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C65742-400C-4125-B2DF-087052C5D085}"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D9C153-E5F2-405F-886F-2935BE27281F}"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1433AE-1CAD-4B46-851F-7C0F22A0C33D}"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38B835-3101-4CA8-B70F-2F111F794F55}"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045969A-831E-44F3-9C53-8C69E5BCA174}"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BC4BB9-D64E-43D2-9DFB-79EE66AE35D2}"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A9DCB8-DAF5-4B7D-9A9B-1AD01CC0B76A}"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4637CF-A9E5-4892-AA86-AF95B725D869}"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A65A52-E6FC-439A-9EB1-D24376AC261F}"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A95D69-4577-4B3C-A94B-DDD855AE4F34}"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FB3058-CA9C-476E-A756-93BE8E294D87}"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24B22B7-B03D-40D4-BD97-8C00B6D0B320}"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53C01E-1E52-45FD-83AF-583E2B4CB3AD}"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ADF005-499F-4D68-BD76-8225B213438D}"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7D880C-6108-4803-8DAB-64B3AD9780F1}"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E374F01-5CCA-4AF3-B78D-40838578B5BE}"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80789A-31B8-46BA-BDF2-C6D0A5065449}"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2396029-FDC0-421B-892C-E831FC251108}"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B0D62F-84FE-40B4-B2C8-F702DC02F145}"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CCB3A5-41E6-4FF2-A568-832F9E048B69}"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2C2895-39CE-486C-B356-CDA793C7D203}"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5676B4-4CDD-428C-8B36-AF0656FEA990}"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38D84D-CF82-4461-89AD-C9C12D98519E}"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EFF6F4-636A-4E52-8DF4-AB21F315B4D9}"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C1E5DE-2580-4AB4-B14D-26B45E6A9851}"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121775-DA71-4847-A917-BFD6753CA098}"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2A1F6D-9670-4DA6-9866-1227B96091F5}"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2E0DD1-44CF-4C02-9E82-2E7B4C082874}"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3D6821-D170-4BE3-B024-D237D561D3EA}"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F069D9-E4EB-4461-A61C-DB24AC2DC753}"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76A7AA-79BF-4146-8EE1-3F0487A03A35}"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D287F2-6871-4601-A8CE-B9577B72A235}"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81C825-F944-4454-BF6A-4018F6E7CFD7}"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FB92F60-217C-4B74-887C-2BDE3D7C5DBF}"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E446FF-CC0C-4278-B83E-EF1BEBA62EAF}"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EB2DF5-09E7-4686-BD06-D76DDF1DCF33}"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61BFD8-1AA2-4512-A1DD-8FED35CE2E7C}"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CD78D7-2581-4C81-BB8D-C47EED04B1B2}"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E40023-6E11-468F-9227-1E274F8D1D26}"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E23F2B-F177-46FF-ACAA-032A82620D94}"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2FD197-F2DB-4E3A-A0AE-469D76B5829E}"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E1013A-A03E-49CF-BD55-199D928EC6B7}"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509BE5-94F0-45D3-830A-E56B0977A035}"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B57D38-7BDE-429D-9FD3-6AB16CED05CD}"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565534-0A50-4D84-AF0F-5B99E828CAF2}"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AC96FE-1DB9-4641-AF02-C236895F06F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D37BE0-79A7-432D-BBC4-8AD941F97F5D}"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D26808-92A2-4DFA-801B-E0857CFECBDF}"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6FEFB5-5BAF-4B2C-8650-2F1BE737DEF2}"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89B6DD-8C06-440F-9B99-A17D15F9DEB8}"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AB2790-9949-4C5E-8C84-20B7F50D49F9}"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DAD6C7-8AA7-4802-9FD2-637FC17B6457}"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0DFAEE-068C-4EB4-A0DD-A932B619F6FD}"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19476F-49B4-4201-907E-C66F3E2450A1}"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59AB7E-15D0-4E43-895B-173C4DE08CC6}"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D4E0B3-0147-473E-8B90-8F65E8E01B45}"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52C1E1-B9B6-4103-B429-52EEE9160E6A}"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980B3B-B08C-4227-8865-09765D53EDBA}"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686B59-7201-4D2B-819C-2EA3071FDC26}"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2E7A5F-B7D4-47FA-B6FE-F7694C035805}"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23F886-A22B-4CA8-9591-B0774B88EF06}"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C28AD5D-A8A8-49AB-9FF8-AF17CDB42EEF}"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7B4B6E-1232-4B8F-BCA7-8FBE2D1B6E8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4FC341-7363-462D-9B13-E72EEAD000B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A832C8-F8D7-44EC-8308-4188D4F3775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7DE20C-1B1E-415B-AEA8-5309AB0E207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53F6AC-5788-4FD4-A52F-67013EDD767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7C5FF9-FA60-4D9E-9E03-309C3629F59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44EC5B8-0E9D-4C84-9E1E-C1BD3F27622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EC307A-83FA-4154-A91E-DA2F46BCBA0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D9638A-D968-405B-B787-35349D7CA44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19B56C-890E-4721-B7E9-4281CA5C66E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C118D1-0A52-42BF-8984-C43D9885F7D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C7CED1-E32D-42EF-9BAA-8E248CB1B10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576FB1-8162-4990-BD52-7324A5093CC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AA3F5A-215D-47B7-9D8D-FEC23F5B831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F17FB9-96A3-46CC-987C-FB01C8B1B4D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BEF4F0-8A9A-440B-9671-405BDC3716D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B7A33B-36B0-419C-9C37-947AB9EB2FA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7E0709-349F-4F71-AA29-8764B9E67C5F}"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6FDEB8-E555-4CD6-9A2F-471A2D6AA8C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F4746E-9F74-4B79-BE86-0B42FE1D9A21}"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98806A-951E-47E3-B452-633682158B92}"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CAFB34-272A-428E-8F06-12E616EBB014}"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9AD919-8A6E-4E25-8A92-86B3DE45A0CA}"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4AA7DC-FD47-4D6C-886F-B8CCE96DC70D}"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FD86E0-4081-4C11-A0B6-C9A092071D72}"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BC88C4-2B87-4E9D-A756-501F03746C4C}"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A6C543-3B4C-43AD-95D7-D540C120AD6A}"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68592B-0089-4BC4-9132-85EF979D31F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F7D091-56A4-4329-9CFB-EE5B24E92723}"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E266D3-0F5D-4FF1-B889-5081B7ECE9CF}"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55E311-CFBE-4A54-B697-1FB2DC021631}"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BD3F20-8C34-403D-B997-CB398CC24ABC}"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3C7EBC-7E86-4CED-A451-5ED9AB15E39B}"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3E0E9E-0A3B-48C6-B69D-9663D82BDF8B}"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166169-AE77-41A2-A86E-FA189BF55837}"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790353-F7FD-4B4D-8404-17DFC811341B}"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92483D-5765-4037-B47D-A8D54FAC1800}"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A5BE79-6376-48A8-94AD-3E0F8C1FD874}"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5EA4E3-993F-46C4-86EB-5845FAB11859}"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0AE79D-72F7-4E6E-AF54-3E7CF8DF54EA}"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760C71-E269-477D-A162-96E4299ED521}"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E521AC-F66C-4C98-AA5A-665C49D96DAB}"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0F5896-E6DB-4F49-8EBB-05BC0FBBCCB6}"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0D9BCD-8782-4EED-BC43-052421832773}"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292D44-1F6A-4BCE-BD3D-CCF136F5D508}"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C42B23-E338-4DA3-8A27-45B84DB61A7E}"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01E11E-5757-4015-8AE4-0432C00DFE19}"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EB05B5D-BB2F-4E28-8967-C58DFFA69DBD}"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B8B812-B33E-4450-AE45-66E308B1CD0B}"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A014EC-EA0D-40FF-ACC5-EACA7879ECDF}"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B7BD33-B4B5-4D06-A633-20B60E92641C}"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6FCC52-EBB5-4FBD-BD5F-712324155D5C}"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027060-2B87-40AD-9F86-DD39602424F0}"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7A0FC0-E899-40D4-BEB9-0CF94D3CB999}"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EAAFDA-879F-4570-961A-8A15A9E3ECFD}"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1B1F90-B69A-43DA-8DD8-E2CC15AD8D9A}"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4E0F1A3-38A7-4631-AECA-05DFA09A79A8}"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1F0F49-0F1F-41E4-B7D9-C46CB53B8C20}"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E1EE98-E155-449B-8E06-23BD09A08E46}"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21B2FC-BAA3-4764-8CB5-4C6C35F1AE11}"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E839CC-FEEF-4E8A-8434-A8E5805E5338}"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7D7900-1F95-409B-866B-3C11AD831CF6}"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3ADAF1-E999-4A71-9C7D-F00B37A197AA}"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BE57E5-2FC4-4627-8890-A40FF58C28DC}"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B75EAA-22F5-4DCF-993F-B8F4C2A0E4DB}"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DE7CD1-2F18-4211-B403-1D28ABD2F689}"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C3AAC4-B650-450B-9A77-3C01B0216DC2}"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A4CDAE-A8FE-4956-A78E-EC0EDCD0BF88}"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43B35C-31DC-436F-8C60-4DDB5B2CFA22}"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E548E6-8C3B-4D5E-AA8F-72A0BA322F3D}"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3BC368-05E9-461D-8ACB-F3192B581E3A}"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47C8776-76FF-4598-99A1-19CEB4773935}"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1141D5-3E15-4F28-8DAC-82840B518588}"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7C7955-D4DB-4714-BF14-9F35666A351A}"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58A177-48E4-4DF3-9D26-DF6E41B62BCD}"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E94106-41DE-435F-97D2-E1042583F77E}"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E1A265-552F-4FF5-B2E6-42AB1E6ED646}"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6243CC-C278-4A3F-B0AF-C64D04DDC748}"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3468B3-BA17-4C1E-8DE2-288A7A5F5336}"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07AE17-64E4-4E9C-B1F2-B93AF69BCD45}"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2462AA-3C82-4B57-A824-0AB7A67BF769}"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843A48-2F2C-4EA5-9D9B-FD4A25995757}"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3E2D81-7B13-420D-9F87-95893AEA094F}"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D3EC3C-ED19-498B-B5FF-64B2A15F5FB9}"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0C4F8A-C714-4910-94E6-09846239DE94}"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